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-360" y="-6471000"/>
            <a:ext cx="360" cy="143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-6470640"/>
            <a:ext cx="1440" cy="1433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A1E-1504-4119-BC9C-DE2BCF98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184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859-1176-4754-8BB5-EC593195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04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120" y="3965040"/>
            <a:ext cx="40104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2B8-B3ED-46E7-8D76-EB01A25B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60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5680" y="3965040"/>
            <a:ext cx="26460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4160" y="3965040"/>
            <a:ext cx="26460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29B-1F72-4504-B02E-ED97DAB7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46AC-1BDB-43D4-A777-26554E4D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A1AD-9E37-4BD8-9987-819D53E1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4043-CFF4-4A71-9008-459E99DB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B3C9-D9DE-4D98-89C3-E4357F4C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B9D3-C365-4D55-8550-B827B850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BE06-2F26-4D45-832B-3B35C932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04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0204-CD99-457D-8663-F1216B14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8CC-7BE9-4320-BACB-9FF9739F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120" y="3965040"/>
            <a:ext cx="40104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3A5F-AC62-434D-9E91-C29CF96E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184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D011-1243-47FD-A2FD-C17DE750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184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FC37-E736-45BD-8FDF-84F94928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04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120" y="3965040"/>
            <a:ext cx="40104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D313-FFA2-4BA0-8364-49DCCAAD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60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5680" y="3965040"/>
            <a:ext cx="26460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4160" y="3965040"/>
            <a:ext cx="26460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45C8-A6C9-45B0-8269-6D6ABE7F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B8D-EE24-4540-9E2B-0DF490FF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AA5-7ABB-4D57-A10E-D3326E7F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E8B4-AA8B-4DE8-9188-A226D472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AB2-990B-4F37-BEAD-499B96C9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04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EBC-4989-4A48-9AA8-7357E2A6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120" y="3965040"/>
            <a:ext cx="40104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C912-483D-4DEA-A1A9-5698B56B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184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3FB-59DA-41D0-94B7-368A13FF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22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8468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22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C2285-CA2B-4F71-82BF-1E096660FF3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7986600" y="55440"/>
            <a:ext cx="1143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600200"/>
            <a:ext cx="821844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22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8468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22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A91EC-46C1-4175-A06B-C65CF1350AC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7986600" y="163440"/>
            <a:ext cx="1143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98280"/>
            <a:ext cx="77724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pace Resources Roundtable VIII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olden, CO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ctober 31-November 2, 2006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ntegrated Mars In-Situ Propellant Production System </a:t>
            </a:r>
            <a:br>
              <a:rPr sz="4400"/>
            </a:br>
            <a:br>
              <a:rPr sz="4400"/>
            </a:b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ony Muscatello, Douwe Bruinsma, and Robert Zubrin </a:t>
            </a:r>
            <a:br>
              <a:rPr sz="4000"/>
            </a:b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Pioneer Astronau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Lakewood, Colora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57200" y="174600"/>
            <a:ext cx="82249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Design of Cryodistillation Colum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765520" y="1812960"/>
            <a:ext cx="3705120" cy="3647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58760" y="5632560"/>
            <a:ext cx="70866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cCabe-Thiele Diagram for the CO-CH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System at 3 Bar – Leads to a 2 cm x 40 cm packed column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0% CH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10%CO product with 5% CH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886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77800" y="747720"/>
            <a:ext cx="798048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Estimated Heating/Coo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30960" y="6100920"/>
            <a:ext cx="91933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ed to Improved Heat Exchanger for Reactor and Selection of Cryocoo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491000" y="1246320"/>
            <a:ext cx="2774880" cy="55162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0" y="68400"/>
            <a:ext cx="4108320" cy="14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Distillation and O</a:t>
            </a:r>
            <a:r>
              <a:rPr b="1" lang="en-GB" sz="2200" spc="-1" strike="noStrike" baseline="-33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 Liquefaction with a Single Cryocool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9080" y="1241280"/>
            <a:ext cx="4408560" cy="30196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-108000" y="428760"/>
            <a:ext cx="4794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Selected 15 Watt Sunpower CryoTel GT Stirling Cryocool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200" y="4797360"/>
            <a:ext cx="441648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7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.1kg, 10.2 in. long, 48VDC, 15 Watts cooling at 77K, 235W input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milar to units used on satellites (RHESSI) and Space Shut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7311960" y="1260360"/>
            <a:ext cx="174456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23880" y="1001880"/>
            <a:ext cx="7916760" cy="5789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60480" y="379440"/>
            <a:ext cx="7254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Rebuilt Brassbo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40400" y="2771640"/>
            <a:ext cx="8438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ea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43040" y="1986120"/>
            <a:ext cx="152748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xchan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30400" y="5907240"/>
            <a:ext cx="131004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ecircula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7240" y="1859040"/>
            <a:ext cx="11210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ryocoo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77160" y="2530440"/>
            <a:ext cx="12384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xyg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quef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20200" y="3943440"/>
            <a:ext cx="1529640" cy="354600"/>
          </a:xfrm>
          <a:prstGeom prst="rect">
            <a:avLst/>
          </a:prstGeom>
          <a:solidFill>
            <a:srgbClr val="00d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ryodistill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lum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7920" y="6058080"/>
            <a:ext cx="11941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lectrolyz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72160" y="5722920"/>
            <a:ext cx="14716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ilter/Deioniz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16680" y="3360600"/>
            <a:ext cx="10706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embra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3460680"/>
            <a:ext cx="152748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/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para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60640" y="2709720"/>
            <a:ext cx="152712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xchan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71880" y="2274840"/>
            <a:ext cx="10126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400" spc="-1" strike="noStrike" baseline="-33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/Wa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epara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60480" y="532080"/>
            <a:ext cx="725472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  <a:ea typeface="Arial Unicode MS"/>
              </a:rPr>
              <a:t>O</a:t>
            </a:r>
            <a:r>
              <a:rPr b="1" lang="en-GB" sz="3600" spc="-1" strike="noStrike" baseline="-33000">
                <a:solidFill>
                  <a:srgbClr val="ff0000"/>
                </a:solidFill>
                <a:latin typeface="Arial"/>
                <a:ea typeface="Arial Unicode MS"/>
              </a:rPr>
              <a:t>2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  <a:ea typeface="Arial Unicode MS"/>
              </a:rPr>
              <a:t>/CH</a:t>
            </a:r>
            <a:r>
              <a:rPr b="1" lang="en-GB" sz="3600" spc="-1" strike="noStrike" baseline="-33000">
                <a:solidFill>
                  <a:srgbClr val="ff0000"/>
                </a:solidFill>
                <a:latin typeface="Arial"/>
                <a:ea typeface="Arial Unicode MS"/>
              </a:rPr>
              <a:t>4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  <a:ea typeface="Arial Unicode MS"/>
              </a:rPr>
              <a:t> Ratio Controlled by Feed Rat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30200" y="1730520"/>
            <a:ext cx="8325000" cy="4968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 flipH="1">
            <a:off x="4789440" y="3286080"/>
            <a:ext cx="486000" cy="333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25040" y="3111480"/>
            <a:ext cx="2260800" cy="3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71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1 O</a:t>
            </a:r>
            <a:r>
              <a:rPr b="0" lang="en-GB" sz="18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CH</a:t>
            </a:r>
            <a:r>
              <a:rPr b="0" lang="en-GB" sz="1800" spc="-1" strike="noStrike" baseline="-33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ol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20760" y="5783400"/>
            <a:ext cx="88232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p's confirmed by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Robert Zubrin, Dan Harber, James Kilgore, and Curt Boyll, “Mars McLOx Rocket Propulsion System,” Final NASA Phase I SBIR Report, Pioneer Astronautics, July 24,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28600" y="1235160"/>
            <a:ext cx="8686800" cy="4443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510160" y="544680"/>
            <a:ext cx="3429000" cy="24634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73160"/>
            <a:ext cx="914400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  <a:ea typeface="Arial Unicode MS"/>
              </a:rPr>
              <a:t>Separate Project Has Recently Verified CO/CH</a:t>
            </a:r>
            <a:r>
              <a:rPr b="1" lang="en-GB" sz="3600" spc="-1" strike="noStrike" baseline="-33000">
                <a:solidFill>
                  <a:srgbClr val="ff0000"/>
                </a:solidFill>
                <a:latin typeface="Arial"/>
                <a:ea typeface="Arial Unicode MS"/>
              </a:rPr>
              <a:t>4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  <a:ea typeface="Arial Unicode MS"/>
              </a:rPr>
              <a:t> Fuel Perform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94400" y="2198520"/>
            <a:ext cx="3429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5 lbf Mars equivalent thrust engine burning 10% CO/CH</a:t>
            </a:r>
            <a:r>
              <a:rPr b="1" lang="en-GB" sz="1800" spc="-1" strike="noStrike" baseline="-33000">
                <a:solidFill>
                  <a:srgbClr val="ffffff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LOX, O/F = 3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duce C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/CO fuel and O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n M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able sample return or human expl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er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bon dioxide recycling and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vert hydrogen into a usable fuel for the current energy infrastruc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duction of Syngas (CO/H</a:t>
            </a:r>
            <a:r>
              <a:rPr b="1" lang="en-GB" sz="2400" spc="-1" strike="noStrike" baseline="-33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 to produce valuable products, such as alcohols, olefins and waxe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44400" indent="-214200">
              <a:lnSpc>
                <a:spcPct val="76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Also useful on M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6360" y="46080"/>
            <a:ext cx="1924200" cy="1361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479880"/>
            <a:ext cx="914400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  <a:ea typeface="Arial Unicode MS"/>
              </a:rPr>
              <a:t>Potential Ap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7392960" y="68436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68560" y="520560"/>
            <a:ext cx="84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sults Achieved by IMISPPS SBIR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1143000"/>
            <a:ext cx="845820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1752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designed brassboard system with reduced power consumption, capable of producing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~ 1 kg/day of propellant, at controllable  CO/C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ratios, for a leverage of 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17520">
              <a:lnSpc>
                <a:spcPct val="15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ccessfully demonstrated combined reactions on recycling brassboard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17520">
              <a:lnSpc>
                <a:spcPct val="15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Developed background info for improved separation of C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from 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17520">
              <a:lnSpc>
                <a:spcPct val="15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[Demonstrated C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/CO/LOX as rocket propella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988400" y="5630760"/>
            <a:ext cx="102384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7760" y="76320"/>
            <a:ext cx="1293840" cy="1295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200" y="573120"/>
            <a:ext cx="82263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What is the IMISPP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600200"/>
            <a:ext cx="8226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IMISPPS stands for the Integrated Mars In Situ Propellant Production Syste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IMISPPS combines the Sabatier reaction and the RWGS reaction in a </a:t>
            </a: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single reactor</a:t>
            </a: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 to produce methane/carbon monoxide/LOX rocket propellant from CO</a:t>
            </a:r>
            <a:r>
              <a:rPr b="1" lang="en-GB" sz="2600" spc="-1" strike="noStrike" baseline="-33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 in the Martian atmosphe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Advantages are that the proper amount of oxygen is produced in a single system and a leverage of up to 20 is possible, with 18 being optim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Eliminates the need to make supplemental oxyg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duces power and mas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 flipV="1">
            <a:off x="7772400" y="1487160"/>
            <a:ext cx="1440" cy="1717560"/>
          </a:xfrm>
          <a:prstGeom prst="line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24840" y="28512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70760" y="3890880"/>
            <a:ext cx="15840" cy="1586160"/>
          </a:xfrm>
          <a:prstGeom prst="line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89920" y="429084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429084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28512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3120" cy="15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S/RWGS Reaction Generates Methane Fuel and LOX in the Correct Propor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2286000"/>
            <a:ext cx="4343400" cy="27432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+ 4H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CH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+ 2H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-40 kcal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CO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+ 2H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--&gt; 2CO + 2H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+18 kcal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et = -22 kcal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32004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41148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808360"/>
            <a:ext cx="78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3CO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5440" y="3687840"/>
            <a:ext cx="588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H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400" y="1832040"/>
            <a:ext cx="5841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/RWGS Reactor/G-L Separator/Membra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2292480"/>
            <a:ext cx="2286000" cy="11365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Cryodistil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3732120"/>
            <a:ext cx="2286000" cy="11368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 --&gt; 2O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+ 4H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+114 kcal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39040" y="3881520"/>
            <a:ext cx="603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O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78600" y="4896000"/>
            <a:ext cx="2028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Electrolys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81120" y="5475240"/>
            <a:ext cx="5495760" cy="1800"/>
          </a:xfrm>
          <a:prstGeom prst="line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43640" y="5068800"/>
            <a:ext cx="588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4H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82560" y="4110120"/>
            <a:ext cx="3240" cy="1355760"/>
          </a:xfrm>
          <a:prstGeom prst="line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29600" y="2441520"/>
            <a:ext cx="712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H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3440" y="5784840"/>
            <a:ext cx="8229600" cy="965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Rocket Engine: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 CH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+ 0.29CO + 2O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--&gt; CO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+ 2H</a:t>
            </a:r>
            <a:r>
              <a:rPr b="1" lang="en-GB" sz="2000" spc="-1" strike="noStrike" baseline="-33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 + 0.29CO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p = 370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55040" y="1757520"/>
            <a:ext cx="92376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561960"/>
            <a:ext cx="822636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Goals of Phase II NASA SB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1384200"/>
            <a:ext cx="822636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esign, build, operate, and optimize an end-to-end IMISPPS brassboard, including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 Unicode MS"/>
              </a:rPr>
              <a:t>CO</a:t>
            </a:r>
            <a:r>
              <a:rPr b="0" lang="en-GB" sz="2600" spc="-1" strike="noStrike" baseline="-33000">
                <a:solidFill>
                  <a:srgbClr val="ffffff"/>
                </a:solidFill>
                <a:latin typeface="Arial"/>
                <a:ea typeface="Arial Unicode MS"/>
              </a:rPr>
              <a:t>2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 Unicode MS"/>
              </a:rPr>
              <a:t> acquisition 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 Unicode MS"/>
              </a:rPr>
              <a:t>S/RWGS react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 Unicode MS"/>
              </a:rPr>
              <a:t>Electroly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 Unicode MS"/>
              </a:rPr>
              <a:t>Cryogenic distillation 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 Unicode MS"/>
              </a:rPr>
              <a:t>O</a:t>
            </a:r>
            <a:r>
              <a:rPr b="0" lang="en-GB" sz="2600" spc="-1" strike="noStrike" baseline="-33000">
                <a:solidFill>
                  <a:srgbClr val="ffffff"/>
                </a:solidFill>
                <a:latin typeface="Arial"/>
                <a:ea typeface="Arial Unicode MS"/>
              </a:rPr>
              <a:t>2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 Unicode MS"/>
              </a:rPr>
              <a:t> liquefaction 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emonstrate long-term operation of the brassboard producing 1 kg of propellant/24-hr da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esign and build a protoflight unit resembling a flight unit for a Mars Sample Return miss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emonstrate long-term operation of the protoflight unit producing 1 kg of propellant/24-hr da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8228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RWGS Protoflight Un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624040" y="1360440"/>
            <a:ext cx="39434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573120"/>
            <a:ext cx="82263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Design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0440" y="1276200"/>
            <a:ext cx="868356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termined maximum flow rate for RWGS catalyst equilibrium (about 100 SCCM/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Designed reactor (130 g RWGS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   catalyst/0.46 g Sabatier cataly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taining low inlet pressure pumps for CO</a:t>
            </a:r>
            <a:r>
              <a:rPr b="0" lang="en-GB" sz="3200" spc="-1" strike="noStrike" baseline="-33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qui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rified cryogenic distillation as best process for CO/CH</a:t>
            </a:r>
            <a:r>
              <a:rPr b="0" lang="en-GB" sz="3200" spc="-1" strike="noStrike" baseline="-33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s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Designed distillation colu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termined heating/cooling requir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roved gas/liquid separator to eliminate desiccant colu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517680"/>
            <a:ext cx="82263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GB" sz="4400" spc="-1" strike="noStrike" baseline="-33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 Acquisition by Pump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0440" y="1528920"/>
            <a:ext cx="8454960" cy="48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ssboard system for 8 mbar CO</a:t>
            </a:r>
            <a:r>
              <a:rPr b="0" lang="en-GB" sz="2800" spc="-1" strike="noStrike" baseline="-33000">
                <a:solidFill>
                  <a:srgbClr val="ffffff"/>
                </a:solidFill>
                <a:latin typeface="Arial"/>
              </a:rPr>
              <a:t>2(g)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7 bar CO</a:t>
            </a:r>
            <a:r>
              <a:rPr b="0" lang="en-GB" sz="2800" spc="-1" strike="noStrike" baseline="-33000">
                <a:solidFill>
                  <a:srgbClr val="ffffff"/>
                </a:solidFill>
                <a:latin typeface="Arial"/>
              </a:rPr>
              <a:t>2(l)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t -60</a:t>
            </a:r>
            <a:r>
              <a:rPr b="0" lang="en-GB" sz="2800" spc="-1" strike="noStrike" baseline="33000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 = 3 pumps, 234 We, 12 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800" spc="-1" strike="noStrike" baseline="-33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purified by liquefaction (99% pu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uman mission requires 100x propel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ree commercial pumps = 5.8 kWe, 235 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caling up saves 75% of relative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duced fr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ectrolysis power = 20.2 k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frigeration power = 5.6 k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mp power = 5.8 k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18%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major power needs - therefore fea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01560" y="236520"/>
            <a:ext cx="791388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ube-in-Tube Reactor Conserves He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886200" cy="52578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272120" y="2779560"/>
            <a:ext cx="4800600" cy="20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367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Current Brassboard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135160" y="873000"/>
            <a:ext cx="5000760" cy="576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